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D79-46EC-41E0-BE8C-4749830C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D94-096A-45C3-8997-07EFF67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A38-9623-4A95-ACF8-761AD6DC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994-5CCB-4B37-8A97-2B2743D3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806-1D6A-4599-BDDD-93DB886A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277-181F-4461-9EEC-133729A6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41D-8951-472A-B106-F83A984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947-4617-448F-BEE2-40F97B9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DDB-2C14-469A-8246-C099E913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051-ECB3-4500-A495-6B26749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DED-DEBD-40B7-AACD-1B7F29A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C75-CCB5-4198-A3EF-D6D2888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C15-08AF-4B7D-A8AF-BDC4BE4C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 veux la pizz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4960" y="28954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i, je ______ veux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4343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124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aimes les livres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nger Gam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09880" y="2666520"/>
            <a:ext cx="51055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i! Je ______ aime beaucoup!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4572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 aimes écouter de la musique classiqu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48120" y="297144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i, de temps en temps je _______ écout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648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562200"/>
            <a:ext cx="34290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peux essayer ce jean l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2864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819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peux _____ ess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419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us avez ces chaussures en ble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2895120"/>
            <a:ext cx="7010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us ______ avez en ble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3434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9280" y="48769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64000"/>
            <a:ext cx="35812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us avez décider de prendre ce chemisier rose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28954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, je ne ________ vais pas prendre le rose. Je voudrais la verte s’il vous pla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791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43480" y="3076560"/>
            <a:ext cx="3800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3:31:23Z</dcterms:created>
  <dc:creator>asmith</dc:creator>
  <dc:description/>
  <dc:language>en-US</dc:language>
  <cp:lastModifiedBy>asmith</cp:lastModifiedBy>
  <dcterms:modified xsi:type="dcterms:W3CDTF">2012-05-01T16:13:17Z</dcterms:modified>
  <cp:revision>2</cp:revision>
  <dc:subject/>
  <dc:title>Direct Object Pronouns</dc:title>
</cp:coreProperties>
</file>